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91C-9FB6-4C53-B461-AD903538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B2C-626F-4103-802B-BD01C0DC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77B-89B2-4F93-A00C-A07603EA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BFA-A56A-4344-980A-E1046A94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E7C-21C3-416E-A9BE-A9FB7BA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480-725C-4292-92D7-1B43F078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9F9-1D6E-46DC-A1A9-9B9BC6F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594-0C96-418B-A9CF-2C89A1F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325-B1D0-4B01-84BF-91276EA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7F6-3819-4C7A-8C6E-6E997F0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8B7-95C8-4595-B397-88521A7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CC4-E762-483C-AC61-D2EB838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D757-97EE-48F2-AB62-8FADBA62F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2389320" y="58212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438120" y="398160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571840" y="497376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895320" y="54370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288936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895320" y="2494080"/>
            <a:ext cx="82296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0001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1189080" y="4419720"/>
            <a:ext cx="8229600" cy="12747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01800" y="39560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20880" y="2651040"/>
            <a:ext cx="82296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804960" y="5151600"/>
            <a:ext cx="836280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4" descr=""/>
          <p:cNvPicPr/>
          <p:nvPr/>
        </p:nvPicPr>
        <p:blipFill>
          <a:blip r:embed="rId2"/>
          <a:stretch/>
        </p:blipFill>
        <p:spPr>
          <a:xfrm>
            <a:off x="5931000" y="1305000"/>
            <a:ext cx="2463840" cy="1017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895320" y="47480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4"/>
          <a:stretch/>
        </p:blipFill>
        <p:spPr>
          <a:xfrm>
            <a:off x="1427040" y="4248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5"/>
          <a:stretch/>
        </p:blipFill>
        <p:spPr>
          <a:xfrm>
            <a:off x="1036800" y="3816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6"/>
          <a:stretch/>
        </p:blipFill>
        <p:spPr>
          <a:xfrm>
            <a:off x="895320" y="33894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7"/>
          <a:stretch/>
        </p:blipFill>
        <p:spPr>
          <a:xfrm>
            <a:off x="895320" y="2895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8"/>
          <a:stretch/>
        </p:blipFill>
        <p:spPr>
          <a:xfrm>
            <a:off x="890640" y="2309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9"/>
          <a:stretch/>
        </p:blipFill>
        <p:spPr>
          <a:xfrm>
            <a:off x="907920" y="18162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0"/>
          <a:stretch/>
        </p:blipFill>
        <p:spPr>
          <a:xfrm>
            <a:off x="1427040" y="14637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1"/>
          <a:stretch/>
        </p:blipFill>
        <p:spPr>
          <a:xfrm>
            <a:off x="450720" y="107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341280" y="30052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0131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2"/>
          <p:cNvGrpSpPr/>
          <p:nvPr/>
        </p:nvGrpSpPr>
        <p:grpSpPr>
          <a:xfrm>
            <a:off x="6519960" y="3206880"/>
            <a:ext cx="1638360" cy="1337040"/>
            <a:chOff x="6519960" y="3206880"/>
            <a:chExt cx="1638360" cy="1337040"/>
          </a:xfrm>
        </p:grpSpPr>
        <p:cxnSp>
          <p:nvCxnSpPr>
            <p:cNvPr id="71" name="Straight Arrow Connector 14"/>
            <p:cNvCxnSpPr/>
            <p:nvPr/>
          </p:nvCxnSpPr>
          <p:spPr>
            <a:xfrm flipV="1">
              <a:off x="6798960" y="3429000"/>
              <a:ext cx="1080360" cy="3589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2" name="Straight Arrow Connector 15"/>
            <p:cNvCxnSpPr/>
            <p:nvPr/>
          </p:nvCxnSpPr>
          <p:spPr>
            <a:xfrm>
              <a:off x="6798960" y="3787920"/>
              <a:ext cx="1080360" cy="5763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3" name="Straight Arrow Connector 16"/>
            <p:cNvCxnSpPr/>
            <p:nvPr/>
          </p:nvCxnSpPr>
          <p:spPr>
            <a:xfrm flipV="1">
              <a:off x="7850160" y="3409560"/>
              <a:ext cx="29160" cy="932400"/>
            </a:xfrm>
            <a:prstGeom prst="straightConnector1">
              <a:avLst/>
            </a:prstGeom>
            <a:ln w="25560">
              <a:solidFill>
                <a:srgbClr val="2c7635"/>
              </a:solidFill>
              <a:miter/>
              <a:tailEnd len="med" type="triangle" w="med"/>
            </a:ln>
          </p:spPr>
        </p:cxnSp>
        <p:sp>
          <p:nvSpPr>
            <p:cNvPr id="74" name="TextBox 18"/>
            <p:cNvSpPr/>
            <p:nvPr/>
          </p:nvSpPr>
          <p:spPr>
            <a:xfrm>
              <a:off x="6519960" y="35899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9"/>
            <p:cNvSpPr/>
            <p:nvPr/>
          </p:nvSpPr>
          <p:spPr>
            <a:xfrm>
              <a:off x="7833600" y="417564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7870320" y="32068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1620720" y="3816360"/>
            <a:ext cx="460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1"/>
          <a:stretch/>
        </p:blipFill>
        <p:spPr>
          <a:xfrm>
            <a:off x="353880" y="26938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3"/>
          <a:stretch/>
        </p:blipFill>
        <p:spPr>
          <a:xfrm>
            <a:off x="1219320" y="5510160"/>
            <a:ext cx="8057880" cy="64620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1176480" y="6046920"/>
            <a:ext cx="8053200" cy="4698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5"/>
          <a:stretch/>
        </p:blipFill>
        <p:spPr>
          <a:xfrm>
            <a:off x="1195560" y="5016600"/>
            <a:ext cx="805176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493560" y="4327560"/>
            <a:ext cx="8060040" cy="6951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80960" y="3127320"/>
            <a:ext cx="80596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6:01Z</dcterms:created>
  <dc:creator/>
  <dc:description/>
  <dc:language>en-US</dc:language>
  <cp:lastModifiedBy/>
  <dcterms:modified xsi:type="dcterms:W3CDTF">2011-12-08T11:46:06Z</dcterms:modified>
  <cp:revision>1</cp:revision>
  <dc:subject/>
  <dc:title/>
</cp:coreProperties>
</file>